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09D9-70A0-4B83-A294-3355A8DBD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4EBD-0568-46BE-9BA4-D9BAFFD8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1B49-92E0-448F-96B4-947529A5B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21E2-1FE2-4C8D-BC82-023C26CFC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B898-7E0F-489F-BB1F-952BC9D9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5317-621C-45F5-B674-F8CA1B62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4C18-3FF2-4954-8C3D-12B7EE48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331A-A19C-4D51-9231-405C90EA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DC78-12A8-4EA4-8F52-7287B984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F5F2-9A7E-4EF4-8A03-25E9F738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6DBB-7B11-4D24-9D62-542D7667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3695-780C-4F0A-BA42-4BF153FC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3197-0E9D-46A3-A262-1F3B13FB6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Χρήσιμοι σύνθετοι μετασχηματισμο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206028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α) Περιγραφή σκηνής ως προς περιστραμμένο</a:t>
            </a:r>
            <a:br>
              <a:rPr sz="1800"/>
            </a:b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σύστημα συντεταγμέν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β) Περιστροφή στις 2Δ ως προς αυθαίρετα επιλεγμένο σημεί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γ) Περιστροφή στις 3Δ ως προς άξονα περιστροφής που διέρχεται από την αρχή των αξόνω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δ) Περιστροφή στις 3Δ ως προς άξονα περιστροφής που διέρχεται από τυχαίο σημεί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εριγραφή σκηνής ως προς περιστραμμέν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ύστημα συντεταγμέν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618920" y="1483920"/>
            <a:ext cx="410508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Αρκεί να βρούμε τους διαδοχικούς μετασχηματισμούς που οδηγούν στην ταύτιση των αξόνων του νέου συστήματος συντεταγμένων με τους ομώνυμους άξονες του αρχικού συστήματο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ffcc00"/>
                </a:solidFill>
                <a:latin typeface="Times New Roman"/>
              </a:rPr>
              <a:t>θ</a:t>
            </a:r>
            <a:r>
              <a:rPr b="1" i="1" lang="en-US" sz="1800" spc="-1" strike="noStrike" baseline="-25000">
                <a:solidFill>
                  <a:srgbClr val="ffcc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η γωνία που σχηματίζουν οι άξονες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y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y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ffcc00"/>
                </a:solidFill>
                <a:latin typeface="Times New Roman"/>
              </a:rPr>
              <a:t>θ</a:t>
            </a:r>
            <a:r>
              <a:rPr b="1" i="1" lang="en-US" sz="1800" spc="-1" strike="noStrike" baseline="-25000">
                <a:solidFill>
                  <a:srgbClr val="ffcc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η γωνία που σχηματίζει η προβολή του άξονα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y’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στο επίπεδο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α) Περιστροφή της σκηνής κατά γωνία </a:t>
            </a:r>
            <a:r>
              <a:rPr b="1" i="1" lang="en-US" sz="1800" spc="-1" strike="noStrike">
                <a:solidFill>
                  <a:srgbClr val="ffcc00"/>
                </a:solidFill>
                <a:latin typeface="Times New Roman"/>
              </a:rPr>
              <a:t>–</a:t>
            </a:r>
            <a:r>
              <a:rPr b="1" i="1" lang="el-GR" sz="1800" spc="-1" strike="noStrike">
                <a:solidFill>
                  <a:srgbClr val="ffcc00"/>
                </a:solidFill>
                <a:latin typeface="Times New Roman"/>
              </a:rPr>
              <a:t>θ</a:t>
            </a:r>
            <a:r>
              <a:rPr b="1" i="1" lang="en-US" sz="1800" spc="-1" strike="noStrike" baseline="-25000">
                <a:solidFill>
                  <a:srgbClr val="ffcc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με άξονα περιστροφής τον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66364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ύνθετη περιστροφή συστήματος συντεταγμένων - Μητρώο μετασχηματισμο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47640" y="3284280"/>
            <a:ext cx="640080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000000"/>
                </a:solidFill>
                <a:uFillTx/>
                <a:latin typeface="Times New Roman"/>
              </a:rPr>
              <a:t>Κώδικας υλοποίησης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glMatrixMode ( GL_MODELVIEW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glLoadIdentity (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glRotate(-thetaY, 0, 0, 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glRotate(-thetaX, 0, 1, 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98328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εριστροφή σχήματος ως πρ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υθαίρετα επιλεγμένο σημείο (2Δ)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47640" y="2276640"/>
            <a:ext cx="64008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Το μητρώα  που ορίζουμε με τις </a:t>
            </a:r>
            <a:r>
              <a:rPr b="1" i="1" lang="en-US" sz="1800" spc="-1" strike="noStrike">
                <a:solidFill>
                  <a:srgbClr val="ffcc00"/>
                </a:solidFill>
                <a:latin typeface="Times New Roman"/>
              </a:rPr>
              <a:t>glRotate</a:t>
            </a:r>
            <a:r>
              <a:rPr b="1" i="1" lang="el-GR" sz="1800" spc="-1" strike="noStrike">
                <a:solidFill>
                  <a:srgbClr val="ffcc00"/>
                </a:solidFill>
                <a:latin typeface="Times New Roman"/>
              </a:rPr>
              <a:t>*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 εκτελούν περιστροφές ως προς </a:t>
            </a:r>
            <a:r>
              <a:rPr b="1" lang="el-GR" sz="1800" spc="-1" strike="noStrike">
                <a:solidFill>
                  <a:srgbClr val="ff0000"/>
                </a:solidFill>
                <a:latin typeface="Times New Roman"/>
              </a:rPr>
              <a:t>την αρχή των αξόνων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 του συστήματος συντεταγμένων σκηνή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Για την περιστροφή ως προς ένα αυθαίρετα επιλεγμένο σημείο πρέπει να ορίσουμε έναν σύνθετο μετασχηματισμ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εριστροφή σχήματος ως πρ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υθαίρετα επιλεγμένο σημείο (2Δ)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7640" y="1915920"/>
            <a:ext cx="64008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000000"/>
                </a:solidFill>
                <a:uFillTx/>
                <a:latin typeface="Times New Roman"/>
              </a:rPr>
              <a:t>Βήματα του μετασχηματισμού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α) Ανάγουμε τη σκηνή σε σύστημα συντεταγμένων με αρχ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στο σημείο </a:t>
            </a:r>
            <a:r>
              <a:rPr b="1" i="1" lang="el-GR" sz="1800" spc="-1" strike="noStrike">
                <a:solidFill>
                  <a:srgbClr val="ffcc00"/>
                </a:solidFill>
                <a:latin typeface="Times New Roman"/>
              </a:rPr>
              <a:t>(xc,yc)</a:t>
            </a:r>
            <a:r>
              <a:rPr b="1" i="1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μετατόπιση κατά</a:t>
            </a:r>
            <a:r>
              <a:rPr b="1" i="1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1800" spc="-1" strike="noStrike">
                <a:solidFill>
                  <a:srgbClr val="ffcc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cc00"/>
                </a:solidFill>
                <a:latin typeface="Times New Roman"/>
              </a:rPr>
              <a:t>-xc,-yc</a:t>
            </a:r>
            <a:r>
              <a:rPr b="1" i="1" lang="el-GR" sz="1800" spc="-1" strike="noStrike">
                <a:solidFill>
                  <a:srgbClr val="ffcc00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β) Περιστρέφουμε τις συντεταγμένες κατά τη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προβλεπόμενη γωνί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γ) Επαναφέρουμε την περιγραφή της σκηνής ως προς τ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αρχικό σύστημα συντεταγμένων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μετατόπιση κατά </a:t>
            </a:r>
            <a:r>
              <a:rPr b="1" i="1" lang="en-US" sz="1800" spc="-1" strike="noStrike">
                <a:solidFill>
                  <a:srgbClr val="ffcc00"/>
                </a:solidFill>
                <a:latin typeface="Times New Roman"/>
              </a:rPr>
              <a:t>(xc,yc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εριστροφή σχήματος ως πρ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υθαίρετα επιλεγμένο σημείο (2Δ)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19280" y="3141720"/>
            <a:ext cx="64008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000000"/>
                </a:solidFill>
                <a:uFillTx/>
                <a:latin typeface="Times New Roman"/>
              </a:rPr>
              <a:t>Κώδικας υλοποίησης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glMatrixMode ( GL_MODELVIEW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glLoadIdentity (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glTranslate*( xc, yc, 0 );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// 3ος εφαρμοζόμενος Μ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glRotate*( α, 0, 0, 1 );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// 2ος εφαρμοζόμενος Μ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glTranslate*( -xc, -yc, 0);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// 1ος εφαρμοζόμενος Μ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19280" y="1413000"/>
            <a:ext cx="676908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εριστροφή σχήματος στις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ως πρ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υχαίο άξονα περιστροφή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547640" y="2060640"/>
            <a:ext cx="64008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Έστω </a:t>
            </a:r>
            <a:r>
              <a:rPr b="1" i="1" lang="el-GR" sz="1800" spc="-1" strike="noStrike">
                <a:solidFill>
                  <a:srgbClr val="ffcc00"/>
                </a:solidFill>
                <a:latin typeface="Times New Roman"/>
              </a:rPr>
              <a:t>(vx,vy,vz)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 το διάνυσμα διεύθυνσης του άξον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περιστροφή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000000"/>
                </a:solidFill>
                <a:uFillTx/>
                <a:latin typeface="Times New Roman"/>
              </a:rPr>
              <a:t>Δύο περιπτώσει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α) Ο άξονας περιστροφής διέρχεται από την αρχή τ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αξόν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β) Ο άξονας περιστροφής διέρχεται από τυχαίο σημεί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ffcc00"/>
                </a:solidFill>
                <a:latin typeface="Times New Roman"/>
              </a:rPr>
              <a:t>(xc, yc, z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) Άξονας περιστροφής διερχόμεν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πό την αρχή των αξόν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4149360"/>
            <a:ext cx="26272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Times New Roman"/>
              </a:rPr>
              <a:t>α) Ανάγουμε τη σκηνή σε σύστημα συντεταγμένων περιστραμμένο ως προς το αρχικό και τέτοιο ώστε ένας από τους άξονές του να ταυτίζεται με τον άξονα περιστροφή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2592360" cy="2500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132000" y="1484280"/>
            <a:ext cx="2808360" cy="2494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132000" y="4221000"/>
            <a:ext cx="280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β) Περιστρέφουμε τη σκηνή κατά την επιθυμητή γωνία </a:t>
            </a:r>
            <a:r>
              <a:rPr b="0" i="1" lang="el-GR" sz="1600" spc="-1" strike="noStrike">
                <a:solidFill>
                  <a:srgbClr val="ffcc00"/>
                </a:solidFill>
                <a:latin typeface="Times New Roman"/>
              </a:rPr>
              <a:t>α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242040" y="1484280"/>
            <a:ext cx="2901960" cy="2482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227640" y="4221000"/>
            <a:ext cx="291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γ) Επαναφέρουμε την περιγραφή της σκηνής στο αρχικά καθορισμένο σύστημα συντεταγμένω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Β) Άξονας περιστροφής διερχόμεν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πό τυχαίο σημείο (vx0,vy0,vz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32000" y="2060640"/>
            <a:ext cx="37447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Ομοίως με την προηγούμενη περίπτωση αλλά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α) προηγείται μεταφορά της αρχής των αξόνων στο σημείο </a:t>
            </a:r>
            <a:r>
              <a:rPr b="1" i="1" lang="el-GR" sz="1800" spc="-1" strike="noStrike">
                <a:solidFill>
                  <a:srgbClr val="ffcc00"/>
                </a:solidFill>
                <a:latin typeface="Times New Roman"/>
              </a:rPr>
              <a:t>(vx0,vy0,vz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β) μετά το πέρας των περιστροφών, έπεται η αντίστροφη μετατόπιση στο αρχικό σύστημα συντεταγμένω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076720" y="2060640"/>
            <a:ext cx="309564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2:55:19Z</dcterms:created>
  <dc:creator>Theodoros Alexandropoulos</dc:creator>
  <dc:description/>
  <dc:language>en-US</dc:language>
  <cp:lastModifiedBy>Κώστας Καρπούζης</cp:lastModifiedBy>
  <dcterms:modified xsi:type="dcterms:W3CDTF">2008-09-10T13:30:58Z</dcterms:modified>
  <cp:revision>49</cp:revision>
  <dc:subject/>
  <dc:title>Slide 1</dc:title>
</cp:coreProperties>
</file>